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59B-BE6F-4514-B81A-3B4160E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0B9-A6BA-49BD-BE83-98B3DC7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D61-E6BE-4119-98C6-34A724C5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94D-13F3-4AA9-BB32-FB2594B9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0C4D-8BE5-4EA2-935D-A8B98DD6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E3B4-6C5F-4998-AAA9-1CFF4A7B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E72-EDAC-4F39-AF4E-27D6E4E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3E7-61F0-4D0F-9B8B-FACE367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D7FD-DE34-4B77-9010-BCF58103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089B-12F6-459C-868A-70CC5F0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D5C5-B18B-4AFF-9560-BEE3862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B9C-03C4-44E2-A2DD-4B747B5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E5E3-EE54-4F02-99CA-79F0416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A537-BBB1-45CB-938A-A6683FC9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0455-54E4-4B21-AC0C-5994392E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4A1E-9243-496A-BAB2-0EC56A7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E5A-5B42-4B6B-A4C6-622C187F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D62-1A0E-4B84-80CF-307C63E0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50E-2254-4E68-AAF4-0B2293B6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49F-DED5-4BF9-B56B-E5A0B792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E66-BD6F-4503-AD1C-13B5AD5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14B-CDEA-4FE6-8EB3-C3B8F4A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729-A82E-4247-9E6E-3653FF45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DE7-E305-4414-988F-049D5C3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474A-C9C4-41FD-A0D0-7D1CF2435F9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B474-9E16-41F3-8C04-A16BF7665E8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0"/>
            <a:ext cx="61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ا أحبَّ مساكِنَك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َ الجنود تشتاقُ وتذوبُ نفسي إلى ديارِ الر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رنمُ قلبي وجسمي للإلهِ الحيّ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العصفورُ وجَدَ لهُ مأوى واليمامةُ عُشاً تَضَعُ فيه أفراخَه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0"/>
            <a:ext cx="535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مذابحِكَ يا ربَّ الجنودِ مَلِكي وإله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0"/>
            <a:ext cx="4995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سكّان بيتِكَ فإنه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لا يبرحونَ يسبّحونَكَ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9:47:28Z</dcterms:created>
  <dc:creator>Charbel Azar</dc:creator>
  <dc:description/>
  <dc:language>en-US</dc:language>
  <cp:lastModifiedBy>ف</cp:lastModifiedBy>
  <dcterms:modified xsi:type="dcterms:W3CDTF">2006-11-07T19:33:19Z</dcterms:modified>
  <cp:revision>8</cp:revision>
  <dc:subject/>
  <dc:title>Slide 1</dc:title>
</cp:coreProperties>
</file>